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5DA-DBEB-45D5-9CFA-D4631E12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093-1FC0-41B6-8279-63404104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53E-2989-4C2F-B3CA-8E0AAAD6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649-83A1-4BF4-8AC9-17D880B0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D3A3-071E-4CFB-ADC4-D4EFB9C4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77A-2B85-40FA-9B3A-6BD851D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0355-E081-4DFC-9551-3D20D5C5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BFF7-0211-4FDF-B60A-746E7B25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CBA7-CEB3-4FE2-8EFA-B336EBF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500E-5365-40B2-9C44-B3F1F57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CD29-25A9-42E1-BC45-4971E23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ACB-4677-4D66-A96F-639E7013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BD8-244A-42D6-A41A-B2564D7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755-34BA-4605-902E-2CA51656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C65-E6A7-4F3C-B5E9-5CFF0B05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6C8-ADFD-4F13-A0F9-2AC2E1F5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6F16-ABB2-4841-8325-2FA319F6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E5C-E06C-4F18-85D5-540E04B5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8BE-539D-440F-AFF6-5128DD5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171-48EE-47FA-9667-E0E0BB8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B81-7C73-4B09-B9D2-72D7DFE9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FE1-01A9-464C-83E9-7C87C4B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DCD-DE9B-4DB8-A7CC-8F146E5A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06F-81F8-4F6A-88F5-3C8D88E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2A0-FE58-4E9A-ABC1-64098508307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1F39-3DEC-40EB-B412-28BCB23F733F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heducation.com/olcweb/cgi/pluginpop.cgi?it=swf::800::600::/sites/dl/free/0072482621/59229/Bohr_Nav.swf::The%20Bohr%20Ato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1028"/>
          <p:cNvSpPr/>
          <p:nvPr/>
        </p:nvSpPr>
        <p:spPr>
          <a:xfrm>
            <a:off x="1905120" y="2971800"/>
            <a:ext cx="5029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1029"/>
          <p:cNvSpPr/>
          <p:nvPr/>
        </p:nvSpPr>
        <p:spPr>
          <a:xfrm>
            <a:off x="3124080" y="1676520"/>
            <a:ext cx="2667240" cy="396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1030"/>
          <p:cNvSpPr/>
          <p:nvPr/>
        </p:nvSpPr>
        <p:spPr>
          <a:xfrm>
            <a:off x="2362320" y="2362320"/>
            <a:ext cx="403848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Oval 1031"/>
          <p:cNvSpPr/>
          <p:nvPr/>
        </p:nvSpPr>
        <p:spPr>
          <a:xfrm>
            <a:off x="4267080" y="3581280"/>
            <a:ext cx="381240" cy="38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Oval 1032"/>
          <p:cNvSpPr/>
          <p:nvPr/>
        </p:nvSpPr>
        <p:spPr>
          <a:xfrm>
            <a:off x="4495680" y="1523880"/>
            <a:ext cx="152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Oval 1033"/>
          <p:cNvSpPr/>
          <p:nvPr/>
        </p:nvSpPr>
        <p:spPr>
          <a:xfrm>
            <a:off x="5867280" y="2743200"/>
            <a:ext cx="152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Oval 1034"/>
          <p:cNvSpPr/>
          <p:nvPr/>
        </p:nvSpPr>
        <p:spPr>
          <a:xfrm>
            <a:off x="2743200" y="4114800"/>
            <a:ext cx="15228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st Rutherford shot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My Documents\School\sc9\gold foil.gif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C:\My Documents\School\sc9\Rutherford model.gif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2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828800" y="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2862360" y="1841400"/>
            <a:ext cx="34858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emitted from matter at particular energies, or qua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My Documents\School\sc9\Bohr mode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68560"/>
            <a:ext cx="9144000" cy="45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My Documents\School\sc9\s orbital.gif"/>
          <p:cNvPicPr/>
          <p:nvPr/>
        </p:nvPicPr>
        <p:blipFill>
          <a:blip r:embed="rId1"/>
          <a:stretch/>
        </p:blipFill>
        <p:spPr>
          <a:xfrm>
            <a:off x="1066680" y="76320"/>
            <a:ext cx="7010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My Documents\School\sc9\p orbitals.gif"/>
          <p:cNvPicPr/>
          <p:nvPr/>
        </p:nvPicPr>
        <p:blipFill>
          <a:blip r:embed="rId1"/>
          <a:stretch/>
        </p:blipFill>
        <p:spPr>
          <a:xfrm>
            <a:off x="0" y="2089080"/>
            <a:ext cx="91440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My Documents\School\Phy 11\stuf\democritus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My Documents\School\sc9\d orbitals.gif"/>
          <p:cNvPicPr/>
          <p:nvPr/>
        </p:nvPicPr>
        <p:blipFill>
          <a:blip r:embed="rId1"/>
          <a:stretch/>
        </p:blipFill>
        <p:spPr>
          <a:xfrm>
            <a:off x="216216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584 Q 1.1-1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composed of 4 elements, Earth, Air, Fire, Water and there is no empty space – it is filled with Æ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p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C:\My Documents\School\sc9\JJThompson.gif"/>
          <p:cNvPicPr/>
          <p:nvPr/>
        </p:nvPicPr>
        <p:blipFill>
          <a:blip r:embed="rId1"/>
          <a:stretch/>
        </p:blipFill>
        <p:spPr>
          <a:xfrm>
            <a:off x="5153040" y="1981080"/>
            <a:ext cx="280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p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09T23:38:29Z</dcterms:modified>
  <cp:revision>32</cp:revision>
  <dc:subject/>
  <dc:title>Sir Joseph John Thompson</dc:title>
</cp:coreProperties>
</file>